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325E-0EBA-4406-B9F0-F10CA35F3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46E0-8AD6-48DC-B2F5-76C69FA94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6BDC-EE6F-4692-8FD1-C7682905B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8DDE-69BC-4059-A164-F6189545F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E664C-5A85-4831-8E31-79205F3D4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DA5F2-741F-4FB6-AC79-7C8E94433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D72D1-995F-4A4A-917A-C005AC3F1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D71EA-CA04-4E9B-B077-B7B286EDA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1E4FB-3B0F-44A5-BB58-F317924F7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29EE9-FDED-4CD5-B67C-F15ECBB2B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B167B-B6D4-4C54-A404-8E8D863DB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191B-8686-44FC-8917-82942F517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0D447-2B40-4DFD-BB6E-155660AFC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54098-7A40-4841-9AF9-1D595B8CD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96BF0-A6F5-43F3-B508-FB1D3EFD6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E4AE1-4F28-4BC7-B668-EE39D5B8B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1C437-071A-44D6-8EAF-981346655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3F45-6B01-4A91-B2BC-4D8065D98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3E5F-C726-4782-9FC1-E69951489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1357-6103-4492-AF9E-44D50E87E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C583-D870-4985-AFF8-2C49A33AA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82570-16B0-4C0F-BB3B-776A9E305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18CF-C2B7-4D85-9B97-566B639BC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E61B-35F4-4EC2-8D01-152452879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82266-5D82-49E0-95A2-ED4180DF45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B08D2-AEF6-4C3D-8581-217C4A565B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22840" y="256680"/>
            <a:ext cx="7959240" cy="52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ПРИОРИТЕТНЫЙ ПРОЕКТ «ФОРМИРОВАНИЕ КОМФОРТНОЙ ГОРОДСКОЙ СРЕДЫ»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 приоритетного проекта - создание условий для системного повышения качества и комфорта городской среды на территории Дальнереченского городского округа путем реализации ежегодно (в период с 2017 по 2022 годы) комплекса первоочередных мероприятий по благоустройств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МЕРОПРИЯТИЯ, НАПРАВЛЕННЫЕ НА ДОСТИЖЕНИЕ ПОСТАВЛЕННЫХ ЦЕЛЕЙ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Благоустройство дворовых территорий и мест общего пользования», в т.ч.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дворовых территорий многоквартир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лых дом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мест общего поль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Обустройство территории городского парка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ероприятия осуществляются в рамках муниципальной программы «Формирование современной городской среды Дальнереченского городского округа» на 2018-2022 годы, утвержденной постановлением администрации ДГО от 31.10.2017 № 84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ПРОГНОЗИРУЕМЫЙ ОБЩИЙ ОБЪЕМ ФИНАНСИРОВАНИЯ ПРОЕКТА – 261,97 МЛН.РУБ.,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 Т.Ч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0912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федеральн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95,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99,97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4796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краев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2,4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2,4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2,4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10,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10,91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0912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средств местного бюдже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0,6 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0,61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0,61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2,6 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2,7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4796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нансовое участие собственников помещений в размере не менее 5% от стоимости работ по благоустройству в рамках минимального и дополнительного перечней работ  и (или) трудовое участие в 2018 го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ОЖИДАЕМЫЕ РЕЗУЛЬТАТЫ РЕАЛИЗАЦИИ ПРОЕКТ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166 дворовых территорий многоквартирных жилых домо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5 общественных территорий городского округ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бустройство территории городского парка Дальнереченского городского округа – площадь обустроенного места 28600 кв.м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31</cp:lastModifiedBy>
  <dcterms:modified xsi:type="dcterms:W3CDTF">2018-02-02T01:06:53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